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B3B6-49F6-47A9-8F49-7EE256336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5BD5-4876-4679-A64A-C4391CB04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02E9-55D1-49F7-8DD5-91EB621CB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12 A partial genetic (linkage) map of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rosophil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E936-43B1-4B02-A4BD-EA2CF0FA0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B04C-77EC-4A17-90C3-E448F65FF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13 Meiotic nondis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9758-D332-4EE3-816D-677466FE5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5200-4CB4-45E5-AF6F-28BF99ACE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0B8B-6564-4E55-9801-24FF32F48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10DE-7A2A-48F1-936D-5D2075F50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167B-E528-472B-B0C0-DAADE526F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16 Down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A5C6-D2A4-46CB-A78A-0EA4037CA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29EE-9D6D-462B-ACC4-B83E5ACC0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1659-1D78-473F-873A-206685F34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B400-87D3-41A6-A5F2-855CD4510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4C47-70A1-4AA3-B6CC-DAB0D2F64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15 Alterations of chromosom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24B3-4FFD-4E36-BE76-B6DA1F1FC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7A3C-77C1-4915-ABA3-B6B2C07AF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152D-F2CC-459C-A30B-C0019A504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75F1-0313-4749-8EEF-E1641620D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19 Variegated leaves from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oton dioi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9142-3A16-4BF4-BD80-534D76A4B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3B2E-D7DA-4771-BC55-D7A9CD14A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40DE-C944-4FD9-B7F9-BC646CD03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6834-C1C4-4FD7-9DE6-5500598FA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D537-18D3-4D9C-BE4B-21F25F51C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FA8F-C94C-43F0-A621-E70A12DCC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948D-08D3-4A71-B4C5-987183130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11 Constructing a linkage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19EC-5CC9-4008-AA68-B33138EBA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E6A2-8786-4871-A4E7-1586A8BCB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228240" y="5791320"/>
            <a:ext cx="85345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8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3469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1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15</a:t>
            </a:r>
            <a:endParaRPr b="1" lang="en-US" sz="5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63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993366"/>
                </a:solidFill>
                <a:latin typeface="Times New Roman"/>
              </a:rPr>
              <a:t>The Chromosomal Basis of Inheritanc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15_12DrosLinkageMap-U"/>
          <p:cNvPicPr/>
          <p:nvPr/>
        </p:nvPicPr>
        <p:blipFill>
          <a:blip r:embed="rId1"/>
          <a:stretch/>
        </p:blipFill>
        <p:spPr>
          <a:xfrm>
            <a:off x="297000" y="174600"/>
            <a:ext cx="8548560" cy="65851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5-12</a:t>
            </a:r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195720" y="177840"/>
            <a:ext cx="27637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utant phenotype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12840" y="622440"/>
            <a:ext cx="998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istae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2992320" y="635040"/>
            <a:ext cx="8334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4160880" y="622440"/>
            <a:ext cx="1265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innabar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5634000" y="622440"/>
            <a:ext cx="12272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estigial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ing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7920000" y="622440"/>
            <a:ext cx="998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7920000" y="5156280"/>
            <a:ext cx="693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5392800" y="5156280"/>
            <a:ext cx="1036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ing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4287960" y="5156280"/>
            <a:ext cx="693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3106800" y="5156280"/>
            <a:ext cx="718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y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312840" y="5168880"/>
            <a:ext cx="18237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ong aristae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appendage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n head)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3017880" y="6210360"/>
            <a:ext cx="30178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ild-type phenotype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731880" y="2679840"/>
            <a:ext cx="1857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3538440" y="2679840"/>
            <a:ext cx="528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.5</a:t>
            </a:r>
            <a:endParaRPr b="0" lang="en-US" sz="2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4363920" y="2679840"/>
            <a:ext cx="528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7.5</a:t>
            </a:r>
            <a:endParaRPr b="0" lang="en-US" sz="2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94" name="Text Box 24"/>
          <p:cNvSpPr/>
          <p:nvPr/>
        </p:nvSpPr>
        <p:spPr>
          <a:xfrm>
            <a:off x="5519880" y="2679840"/>
            <a:ext cx="528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7.0</a:t>
            </a:r>
            <a:endParaRPr b="0" lang="en-US" sz="2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95" name="Text Box 25"/>
          <p:cNvSpPr/>
          <p:nvPr/>
        </p:nvSpPr>
        <p:spPr>
          <a:xfrm>
            <a:off x="8008920" y="2679840"/>
            <a:ext cx="668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4.5</a:t>
            </a:r>
            <a:endParaRPr b="0" lang="en-US" sz="20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15.4: Alterations of chromosome number or structure cause some genetic disord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04480" y="1155600"/>
            <a:ext cx="8534520" cy="56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-scale chromosomal alterations often lead to spontaneous abortions (miscarriages) or cause a variety of developmental disor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ndisjun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airs of homologous chromosomes do not separate normally during mei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a result, one gamete receives two of the same type of chromosome, and another gamete receives no co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2" descr="15_13Nondisjunction_3-U"/>
          <p:cNvPicPr/>
          <p:nvPr/>
        </p:nvPicPr>
        <p:blipFill>
          <a:blip r:embed="rId1"/>
          <a:stretch/>
        </p:blipFill>
        <p:spPr>
          <a:xfrm>
            <a:off x="293760" y="338040"/>
            <a:ext cx="8555040" cy="62564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3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5-13-3</a:t>
            </a:r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008600" y="343080"/>
            <a:ext cx="12650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iosis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2973240" y="1628640"/>
            <a:ext cx="1506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disjunction</a:t>
            </a:r>
            <a:endParaRPr b="0" lang="en-US" sz="16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2332080" y="1468440"/>
            <a:ext cx="60156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51000" y="5937120"/>
            <a:ext cx="37764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Nondisjunction of homologous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s in meiosi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5176800" y="5929200"/>
            <a:ext cx="3100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Nondisjunction of sister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atids in meiosi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3998880" y="2158920"/>
            <a:ext cx="12654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iosis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3868560" y="3451320"/>
            <a:ext cx="1506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disjunction</a:t>
            </a:r>
            <a:endParaRPr b="0" lang="en-US" sz="16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V="1">
            <a:off x="5367240" y="3303360"/>
            <a:ext cx="150840" cy="28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1" name="Text Box 22"/>
          <p:cNvSpPr/>
          <p:nvPr/>
        </p:nvSpPr>
        <p:spPr>
          <a:xfrm>
            <a:off x="4014720" y="3927600"/>
            <a:ext cx="1125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3405240" y="5540400"/>
            <a:ext cx="2471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chromosomes</a:t>
            </a:r>
            <a:endParaRPr b="0" lang="en-US" sz="16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522360" y="5108400"/>
            <a:ext cx="515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7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1521000" y="5100480"/>
            <a:ext cx="515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7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5094360" y="5108400"/>
            <a:ext cx="515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7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6" name="Text Box 27"/>
          <p:cNvSpPr/>
          <p:nvPr/>
        </p:nvSpPr>
        <p:spPr>
          <a:xfrm>
            <a:off x="2538360" y="5100480"/>
            <a:ext cx="515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17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3521160" y="5099040"/>
            <a:ext cx="5158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17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8" name="Text Box 29"/>
          <p:cNvSpPr/>
          <p:nvPr/>
        </p:nvSpPr>
        <p:spPr>
          <a:xfrm>
            <a:off x="6102360" y="5110200"/>
            <a:ext cx="5158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17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9" name="Text Box 30"/>
          <p:cNvSpPr/>
          <p:nvPr/>
        </p:nvSpPr>
        <p:spPr>
          <a:xfrm>
            <a:off x="7296120" y="5103720"/>
            <a:ext cx="1936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20" name="Text Box 31"/>
          <p:cNvSpPr/>
          <p:nvPr/>
        </p:nvSpPr>
        <p:spPr>
          <a:xfrm>
            <a:off x="8318520" y="5103720"/>
            <a:ext cx="1936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04480" y="1176480"/>
            <a:ext cx="853452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euploid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from the fertilization of gametes in which nondisjunction occur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spring with this condition have an abnormal number of a particular chromo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nosom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ygote has only one copy of a particular chromo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som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ygote has three copies of a particular chromo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15.4: Alterations of chromosome number or structure cause some genetic disord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04480" y="1176120"/>
            <a:ext cx="85345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lyploid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condition in which an organism has more than two complete sets of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loidy (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three sets of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ploidy (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four sets of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ploidy is common in plants, but not anim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ploids are more normal in appearance than aneupl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15.4: Alterations of chromosome number or structure cause some genetic disord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Human Disorders Due to Chromosomal Alter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04480" y="1164960"/>
            <a:ext cx="85345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ations of chromosome number and structure are associated with some serious disor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types of aneuploidy appear to upset the genetic balance less than others, resulting in individuals surviving to birth and bey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surviving individuals have a set of symptoms, or syndrome, characteristic of the type of aneuploi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own Syndrome (Trisomy 21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4480" y="1164960"/>
            <a:ext cx="8534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wn syndrom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n aneuploid condition that results from three copies of chromosome 2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ffects about one out of every 700 children born in the United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Down syndrome increases with the age of the mother, a correlation that has not been expla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15_16-DownSyndrome-L"/>
          <p:cNvPicPr/>
          <p:nvPr/>
        </p:nvPicPr>
        <p:blipFill>
          <a:blip r:embed="rId1"/>
          <a:stretch/>
        </p:blipFill>
        <p:spPr>
          <a:xfrm>
            <a:off x="1577880" y="174600"/>
            <a:ext cx="5988240" cy="65851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5-16</a:t>
            </a:r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54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neuploidy of Sex Chromosom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6560" y="1164960"/>
            <a:ext cx="894708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Klinefelter syndrom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result of an extra chromosome in a male, producing XXY individ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0" y="3124080"/>
            <a:ext cx="5702400" cy="373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2"/>
          <a:stretch/>
        </p:blipFill>
        <p:spPr>
          <a:xfrm>
            <a:off x="5232240" y="2743200"/>
            <a:ext cx="391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54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neuploidy of Sex Chromosom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6560" y="1165320"/>
            <a:ext cx="71946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osomy X, called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Turner syndro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roduces X0 females, who are sterile; it is the only known viable monosomy in huma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1"/>
          <a:stretch/>
        </p:blipFill>
        <p:spPr>
          <a:xfrm>
            <a:off x="6553080" y="2698920"/>
            <a:ext cx="2057400" cy="3873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54734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lain the chromosomal theory of inheritance and its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lain why sex-linked diseases are more common in human males than 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tinguish between sex-linked genes and linked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lain how meiosis accounts for recombinant phen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linkage maps are constru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nondisjunction can lead to aneuplo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risomy, triploidy, and polyplo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guish among deletions, duplications, inversions, and trans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genomic im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why extranuclear genes are not inherited in a Mendelian fash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125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04920" y="68580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terations of Chromosome Struc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age of a chromosome can lead to four types of changes in chromosome struc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e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a chromosomal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plic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s a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r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s a segment within a 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loc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s a segment from one chromosom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15_15ChromoAlterations-U"/>
          <p:cNvPicPr/>
          <p:nvPr/>
        </p:nvPicPr>
        <p:blipFill>
          <a:blip r:embed="rId1"/>
          <a:stretch/>
        </p:blipFill>
        <p:spPr>
          <a:xfrm>
            <a:off x="590400" y="168120"/>
            <a:ext cx="7963200" cy="65977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Fig. 15-15</a:t>
            </a:r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989520" y="320760"/>
            <a:ext cx="846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170000" y="203040"/>
            <a:ext cx="2522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B  C   D  E     F  G  H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5297400" y="203040"/>
            <a:ext cx="2306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B   C  E     F  G  H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636480" y="396720"/>
            <a:ext cx="287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636480" y="1895400"/>
            <a:ext cx="287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623880" y="3457440"/>
            <a:ext cx="287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649440" y="4892760"/>
            <a:ext cx="2872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)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3811680" y="1832040"/>
            <a:ext cx="1176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ion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4116240" y="3432240"/>
            <a:ext cx="10112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3900600" y="5121360"/>
            <a:ext cx="14302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iprocal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ocation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1182600" y="1714680"/>
            <a:ext cx="2522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B  C   D  E     F  G  H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1170000" y="3276720"/>
            <a:ext cx="2522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B  C   D  E     F  G  H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1182600" y="4724280"/>
            <a:ext cx="2522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B  C   D  E     F  G  H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5310360" y="1714680"/>
            <a:ext cx="313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B   C  B  C  D   E     F  G  H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665680" y="3276720"/>
            <a:ext cx="2522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D  C   B  E     F  G  H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640480" y="4724280"/>
            <a:ext cx="28526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 N  O   C  D   E    F  G  H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80" name="Text Box 25"/>
          <p:cNvSpPr/>
          <p:nvPr/>
        </p:nvSpPr>
        <p:spPr>
          <a:xfrm>
            <a:off x="1157400" y="5727600"/>
            <a:ext cx="1950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 N  O   P  Q    R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5640480" y="5727600"/>
            <a:ext cx="1646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B   P  Q    R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sorders Caused by Structurally Altered Chromosom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06280" y="1165320"/>
            <a:ext cx="58896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ndro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i du c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“cry of the cat”), results from a specific deletion in chromosom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ild born with this syndrome is mentally retarded and has a catlike cry; individuals usually die in infancy or early child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cancers, inclu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ronic myelogenous leukem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ML), are caused by translocations of 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287" name="Picture 7" descr=""/>
          <p:cNvPicPr/>
          <p:nvPr/>
        </p:nvPicPr>
        <p:blipFill>
          <a:blip r:embed="rId1"/>
          <a:stretch/>
        </p:blipFill>
        <p:spPr>
          <a:xfrm>
            <a:off x="6286680" y="1066680"/>
            <a:ext cx="2857320" cy="3657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212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15.5: Some inheritance patterns are exceptions to the standard chromosome theo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normal exceptions to Mendelian gene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exception involves genes located in the nucleus, and the other exception involves genes located outside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984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Inheritance of Organelle Gen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04480" y="1231560"/>
            <a:ext cx="8534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8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xtranuclear gen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ytoplasmic ge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genes found in organelles in the cytopla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8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tochondria, chloroplasts, and other plant plastids carry small circular DNA molec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8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ranuclear genes are inherited maternally because the zygote’s cytoplasm comes from the eg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8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rst evidence of extranuclear genes came from studies on the inheritance of yellow or white patches on leaves of an otherwise green p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97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7" descr="15_19ExtranuclearInherit-U"/>
          <p:cNvPicPr/>
          <p:nvPr/>
        </p:nvPicPr>
        <p:blipFill>
          <a:blip r:embed="rId1"/>
          <a:stretch/>
        </p:blipFill>
        <p:spPr>
          <a:xfrm>
            <a:off x="2178000" y="841320"/>
            <a:ext cx="4786200" cy="52498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5-19</a:t>
            </a:r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04480" y="1176120"/>
            <a:ext cx="8534520" cy="31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defects in mitochondrial genes prevent cells from making enough ATP and result in diseases that affect the muscular and nervous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mitochondrial myopathy and Leber’s hereditary optic neur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5984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Inheritance of Organelle Gen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67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chromosomal theory of inheritance and its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why sex-linked diseases are more common in human males than 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guish between sex-linked genes and linked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meiosis accounts for recombinant phen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linkage maps are constru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nondisjunction can lead to aneuplo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risomy, triploidy, and polyplo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guish among deletions, duplications, inversions, and trans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genomic im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why extranuclear genes are not inherited in a Mendelian fash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125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09" name="Line 5"/>
          <p:cNvSpPr/>
          <p:nvPr/>
        </p:nvSpPr>
        <p:spPr>
          <a:xfrm>
            <a:off x="304920" y="68580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05920" y="1752480"/>
            <a:ext cx="8534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gan found that body color and wing size are usually inherited together in specific combinations (parental phenotyp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noted that these genes do not assort independently, and reasoned that they were on the same chrom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nparental phenotypes were also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is result involves explo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 recomb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production of offspring with combinations of traits differing from either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51920" y="76320"/>
            <a:ext cx="84582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15.3: Linked genes tend to be inherited together because they are located near each other on the same chromosom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84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combination of Linked Genes: Crossing Over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4480" y="1164960"/>
            <a:ext cx="85345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gan discovered that genes can be linked, but the linkage was incomplete, as evident from recombinant pheno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gan proposed that some process must sometimes break the physical connection between genes on the same chromo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mechanism was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ing ove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homologous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716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pping the Distance Between Genes Using Recombination Data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165320"/>
            <a:ext cx="853452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fred Sturtevant, one of Morgan’s students, construct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enetic ma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 ordered list of the genetic loci along a particular chromo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rtevant predicted tha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 farther apart two genes are, the higher the probability that a crossover will occur between them and therefore the higher the recombination frequ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04480" y="1185840"/>
            <a:ext cx="853452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nkage map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enetic map of a chromosome based on recombination frequen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ances between genes can be expressed a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p uni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one map unit, or centimorgan, represents a 1% recombination frequ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p units indicate relative distance and order, not precise locations of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22716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pping the Distance Between Genes Using Recombination Data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15_11ConstructLinkageMap-U"/>
          <p:cNvPicPr/>
          <p:nvPr/>
        </p:nvPicPr>
        <p:blipFill>
          <a:blip r:embed="rId1"/>
          <a:stretch/>
        </p:blipFill>
        <p:spPr>
          <a:xfrm>
            <a:off x="293760" y="1433520"/>
            <a:ext cx="8555040" cy="40672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317520" y="1460520"/>
            <a:ext cx="2641680" cy="457200"/>
          </a:xfrm>
          <a:prstGeom prst="rect">
            <a:avLst/>
          </a:prstGeom>
          <a:solidFill>
            <a:srgbClr val="fecd66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5-11</a:t>
            </a:r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65120" y="1544760"/>
            <a:ext cx="1531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0" lang="en-US" sz="25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500280" y="2103480"/>
            <a:ext cx="2281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bination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ies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401760" y="3398760"/>
            <a:ext cx="202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551400" y="2967120"/>
            <a:ext cx="452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138640" y="2967120"/>
            <a:ext cx="693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5%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4325760" y="3627360"/>
            <a:ext cx="6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056040" y="4998960"/>
            <a:ext cx="210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4516560" y="4998960"/>
            <a:ext cx="274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n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6078600" y="4998960"/>
            <a:ext cx="312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g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1320840" y="3759120"/>
            <a:ext cx="35568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4480" y="1176480"/>
            <a:ext cx="8534520" cy="32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s that are far apart on the same chromosome can have a recombination frequency near 5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ch genes are physically linked, but genetically unlinked, and behave as if found on different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2716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pping the Distance Between Genes Using Recombination Data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04480" y="1176120"/>
            <a:ext cx="85345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rtevant used recombination frequencies to make linkage maps of fruit fly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methods like chromosomal banding, geneticists can develop cytogenetic maps of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ytogenetic map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cate the positions of genes with respect to chromosomal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74" name="Line 40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2716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pping the Distance Between Genes Using Recombination Data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gibsonbrownr</cp:lastModifiedBy>
  <cp:lastPrinted>2004-11-22T17:37:01Z</cp:lastPrinted>
  <dcterms:modified xsi:type="dcterms:W3CDTF">2010-11-30T03:58:25Z</dcterms:modified>
  <cp:revision>835</cp:revision>
  <dc:subject/>
  <dc:title>video slide</dc:title>
</cp:coreProperties>
</file>